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288-0B4E-49B2-B67B-0A450A0B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283-976F-4183-B92C-548A512A5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CFBF6-C7A6-4175-BECA-120369108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7C83-58F3-4696-A06D-3AC8C86EE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723-0F50-4BB8-806C-20699665E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0AE19-1EC9-4CEF-9081-9DDDA67B3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C7B8-788E-4172-9B22-43BF87D59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2AB-9D9B-41C5-B689-C68F4EDDA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51632-7307-4139-94D2-254B87551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D267-EA18-4A50-BB64-E74E7350A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C090-061B-4D43-9E27-96638E71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33780-BA88-4792-8B69-5A1B4F92A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0254-A77C-4B52-9C37-24C49CF16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272-499F-49E2-B883-02EAE86C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9F65D-BC7F-4CDC-B0AB-C1DFAC08A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073B5-E6E3-4DC8-9C6C-F6BF91E37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4B7-858B-445F-92AB-463F4DB6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480-0BF6-4B25-81E3-8B0E3E2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C45-E509-47D1-A597-C348BB61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7B2-0558-4881-A3E6-D537D621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01F-A458-4D1F-A163-FFE085E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309-669F-41AA-8B9B-EFCBB6E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A3D-9A49-4E54-BADE-C75D519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31F-0437-4064-92FD-EC8D89A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F05-071D-4234-B1FC-699F12E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BEA-5628-474D-A4F9-9D5D664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831-2412-4799-83DF-C502694D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A8A-023A-4CBC-83DC-2CE9A0B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673227BF-BF37-49FC-9FDD-862DF59007E5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195-AB63-4029-84D4-A483FC7996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next 18-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792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0">
              <a:lnSpc>
                <a:spcPct val="98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 and CNIG-IGN will connec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: MRO – JBO at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and routine operations to &gt;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5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next 18-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260360"/>
            <a:ext cx="7925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non-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for HR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international part for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 ongoing for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7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EVN institution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SIRO, 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l infrastructures are in place @ 1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internation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 (ongoing for CSI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nectivity foreca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30320" y="1376280"/>
          <a:ext cx="7199280" cy="44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1376280"/>
                    <a:ext cx="719928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212-64AE-42FC-81BD-695D3C36F6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status (1</a:t>
            </a:r>
            <a:r>
              <a:rPr b="0" lang="en-GB" sz="4000" spc="-1" strike="noStrike" baseline="33000">
                <a:solidFill>
                  <a:srgbClr val="333399"/>
                </a:solidFill>
                <a:latin typeface="Times New Roman"/>
              </a:rPr>
              <a:t>st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Year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3360" y="1131840"/>
            <a:ext cx="803736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46160"/>
            <a:ext cx="823428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forecast of next 18 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8124840" cy="470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38:16Z</dcterms:modified>
  <cp:revision>104</cp:revision>
  <dc:subject/>
  <dc:title>Slide 1</dc:title>
</cp:coreProperties>
</file>